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7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B2A1-5EF2-45BD-8E89-3D3A88D94C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по переработке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F798-E1D9-49AB-ACC8-C78DB158860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6C66-ECC5-4F69-85FA-7A6E3A3A4C6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2ABB-1EF9-4EF0-837E-A0A6E41A4D5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хнологические реш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правлению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2E01-8EEE-4851-A166-897537CC7B1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различных ре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правлению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C058-198A-4C29-B8EA-DC1DADC6EF8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инструменты управления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ехнологические инстр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меньшение количества упаков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содержания вредных веществ в конечном продук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мену вредных/ опасных веществ и материалов в продукте на менее опас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длинение срока жизни продук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менение дизайна продукта на более экологи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использование экологически чистых материалов; соз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уктов с максимальными возможностями повтор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пользования и вторичной переработки и т.п.)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вторное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F24A-8CFA-46AE-AAFF-4096B4A6E8C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хнологические решения по утилизации 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3AC4-AD9F-40C8-ABD0-65FF93D3D5E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ЦИПИАЛЬНЫЕ ПОДХОД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ПЕРЕРАБОТКЕ ОТХОД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четыре возможности по переработке от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захоронение на полиго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жигание, реже пиролиз и прочие высокотемператур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мпост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ртировка с целью вторичного использования, утилизации и рецикл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з данных видов обладает своими достоинствами и недоста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EC5D-325B-40C8-B5D2-429724F16B8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ВЫСОКОТЕМПЕРАТУРНОЙ ПЕРЕРАБОТКИ ОТХОДОВ (сжигание с </a:t>
            </a:r>
            <a:r>
              <a:rPr b="0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учением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энергии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отходов сокращается до 5%, а вес – до 25% от начального объема. Таким образом, снижается потребность в площадях для захоро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когененерационные установки позволяют утилизировать до 80% запаса энергии в отх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тонна несортированного бытового мусора по теплотворности соответствует ¼ т мазу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жигания отходов прекращается выброс в атмосферу метана, образующегося на свалках и являющегося причиной парникового эффекта в 20 раз более значительной, чем двуокись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сжигания могут быть использованы при производстве строительных материалов; отходы сжигания органических веществ можно использовать в качестве удоб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B215-ACB0-4C18-9EEE-CC4805A4690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пост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реимуществам компостирования можно отне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продукта, имеющего частичный рынок сбыта, хотя и ограниченный экологическими требован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объема отходов, отправляемых на полиг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небольшие капиталов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имость с рециклизацией и системами производства топлива из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недостатком компостирования является получение экологически небезопасного продукта, содержащего вредные вещества, главным образом, тяжёлые металлы, загрязняющие почву. Очистка компоста связана со значительными затратами, а следовательно и удорожанием продукта, а подчас невозможна вообщ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5A7D-1E66-4D49-BE3B-0FA79D7D1AE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хоронение на полиго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7D00-D51D-48CF-9072-80B1B9A81A6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ени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(от греч . techne - искусство, мастерство, умение и ...логия), совокупность методов обработки, изготовления, изменения состояния, свойств, формы сырья, материала или полуфабриката, осуществляемых в процессе производства продукции; научная дисциплина, изучающая физические, химические, механические и др. закономерности, действующие в технологических процессах. Технологией называют также сами операции добычи, обработки, транспортировки, хранения, контроля, являющиеся частью общего производствен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ОСБЕРЕГАЮЩАЯ ТЕХНОЛОГИЯ , обеспечивает получение готового продукта производства или его части либо без отходов материалов (безотходный технологический процесс), либо с минимальными отходами, не утилизируемыми в данном, а также в каких-либо других видах производства (малоотходный технологический проце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ОСБЕРЕГАЮЩАЯ ТЕХНОЛОГИЯ , обобщенное название технологий, в которых технологический процесс обеспечивается при минимальном расходе энергии, затратах на основные и вспомогательные материалы, заработную плату рабочим основного производства при заданном качестве и требуемой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ТХОДНАЯ ТЕХНОЛОГИЯ , термин, часто употребляемый в литературе для обозначения малоотходных технологических проце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E329-A958-4A50-A98D-7D074DB613F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ВОДНЫЙ АНАЛИЗ ОСНОВНЫХ ТЕХНОЛОГИЧЕСКИХ РЕШЕНИЙ ПО ПЕРЕРАБОТКЕ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F29C-6E1E-4D6F-B4AF-7C6CB56AB67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ТИО представляет собой информационную систему,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, их разработчиках и местах внед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ТИО представляет собой информационную систему,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, их разработчиках и местах внед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65A3-946F-46F8-BD86-FF0985CBA28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0728-4245-4BD7-B1E1-2B582894F0B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олучение информации ГРТИО имеют государственные органы, организации и гражд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информации государственного реестра государственным органам, за исключением территориальных органов Министерства природных ресурсов и охраны окружающей среды Республики Беларусь, организациям и гражданам осуществляется на плат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платы за предоставление информации государственного реестра определяется органом ведения государственного реестра в соответствии с законодательством Республики Белару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BD55-FDF3-4931-85F9-CD084225B8F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Объектами государственной регистрации в ГРТИО являются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 в Республике Беларусь и иностранных государствах, как внедренные, так и не внедр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ами государственной регистрации являются собственники технологий по использованию отходов или лица, ими уполномоч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может быть добровольной или обязате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технологий по использованию отходов осуществляется на основании регистрационных карт технологий по использованию отходов (далее - регистрационная кар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еобходимости органом ведения ГРТИО могут быть истребованы другие документы о технологиях по использованию от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6F5B-442E-4148-80CC-6F12C921E80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24C9-40D1-440E-9A71-6806F054CD0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5DDE-5B78-40C2-9AA3-50725F91493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0C11-C623-46A2-8081-97D68B2A67B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F8CF-E173-4E69-84D6-11DB7B77B24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— вещества или предметы, образующиеся в процессе осуществления экономической деятельности, жизнедеятельности человека и не имеющие определенного предназначения по месту их образования либо утратившие полностью или частично свои потребительски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потребления — отходы, образующиеся в процессе жизнедеятельности человека, не связанной с осуществлением экономической деятельности, отходы, образующиеся в гаражных кооперативах, садоводческих товариществах и иных потребительских кооперативах, а также уличный и дворовый смет, образующийся на территориях общего пользования населенных пун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производства — отходы, образующиеся в процессе осуществления юридическими лицами и индивидуальными предпринимателями экономической деятельности (производства продукции, энергии, выполнения работ, оказания услуг), побочные и сопутствующие продукты добычи и обогащения полезных ископае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отходы — отходы, содержащие в своем составе вещества, обладающие каким-либо опасным свойством или их совокупностью, в таких количестве и виде, что эти отходы сами по себе либо при вступлении в контакт с другими веществами могут представлять непосредственную или потенциальную опасность причинения вреда окружающей среде, здоровью граждан, имуществу вследствие их вред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B3CF-D7A5-4A79-B3FD-178E90B2FA7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отходов — совокупность отходов, имеющих общие признаки и классифицируемых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нтаризация отходов — деятельность по определению количественных и качественных показателей отходов в целях учета отходов и установления нормативов их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отходов — применение отходов для производства продукции, энергии, выполнения работ, оказания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щение с отходами — деятельность, связанная с образованием отходов, их сбором, разделением по видам отходов, удалением, хранением, захоронением, перевозкой, обезвреживанием и (или) использованием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21A2-6923-4687-9BFA-DABEDA190F7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захоронения отходов — полигоны и иные сооружения, предназначенные для захоро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обезвреживания отходов — сооружения (комплекс сооружений) и оборудование, предназначенные для обезврежива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по использованию отходов — сооружения (комплекс сооружений) и оборудование, предназначенные для использова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хранения отходов — сооружения (комплекс сооружений), предназначенные для хра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3F32-EE07-4FDA-B0F4-E9948848F05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. Размещение отходов — хранение или захоронение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Места временного хранения отходов — специальное оборудование (контейнеры, урны и т.п.), площадки и иные места, предназначенные для временного хра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. Санкционированное захоронение отходов — захоронение отходов в санкционированных местах захоро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. Санкционированное хранение отходов — хранение отходов в санкционированных местах хра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. Санкционированные места захоронения отходов — объекты захоронения отходов, определенные собственнику отходов для их захоронения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. Санкционированные места хранения отходов — объекты хранения отходов или места временного хранения отходов, определенные собственнику отходов для их хранения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969E-3BD4-4A35-BF59-F5FC29AA836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79DF-B0FD-42F9-ACE1-EC70A3B66F5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СИСТЕМЫ УПРАЛЕНИЯ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A15A-A60D-4860-974E-2DA7BF74DF2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1CAF-BD7A-4DAB-9206-66FCBB2D448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124-B966-4685-9FC1-997DC7EA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029-4C35-438B-9E7F-EB7A18B1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540-9B40-4184-9B2E-BFDF2DA7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82ED-B8A5-4E07-991B-9149583E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FBBE-D3D1-4E08-8519-1BAD6036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09DD-8CCF-4BAF-A8B4-451B18F6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78C4-E163-4E19-A1D6-16085F5B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66A4-2FAC-4291-B2C2-1C316B2B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F927-1D4D-4D05-B6AC-547AC3A1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360C-35AC-45B0-994A-2038F9B5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4BCC-61AF-402A-A2E4-17FD2461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475-3C97-4CF8-B350-4468D541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587D-0E7C-4A6D-A96A-1F91E9CB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5016-5F9E-4A70-BAC7-B610D1CE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B921-6594-4129-9F40-C8D297E5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BE2F-3A3E-44A7-8885-C3575F4F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E925-2367-4F65-B3DC-39D6500F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98D-066C-46EA-8025-047C77DF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D00-3285-4A03-BACA-8E3F8778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D0F-62F7-418D-A9E5-1903389C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484-8835-409D-8749-076648BE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0B6-A60C-4B7B-9ACF-58AC72B6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C793-960F-4F94-8BFA-07A92720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933-A47E-4C51-B002-7BD74BB5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9B36-0FA5-4C69-A9E7-0DB610EED0A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B116-DE79-44E8-A7C5-D0E5B998F96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4572000" y="32842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убрицкий Вадим Славомирович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в сектором нормирования и обращения с отходам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УП «Бел НИЦ «Эколог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396040" y="5660640"/>
            <a:ext cx="30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ел/факс (8017) 3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34-76-0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-mail: promeco@tut.b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90280" y="126000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Технологии по переработке отходов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143000" y="1449360"/>
            <a:ext cx="7238880" cy="5408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256560" y="54360"/>
            <a:ext cx="583272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429680" cy="4425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802800" y="803160"/>
            <a:ext cx="7842600" cy="56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0" descr="цветная пирамида"/>
          <p:cNvPicPr/>
          <p:nvPr/>
        </p:nvPicPr>
        <p:blipFill>
          <a:blip r:embed="rId1"/>
          <a:stretch/>
        </p:blipFill>
        <p:spPr>
          <a:xfrm>
            <a:off x="2009880" y="1700280"/>
            <a:ext cx="5978520" cy="5157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29132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сновные технологические решения </a:t>
            </a: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 управлению отходам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0" descr="минупрмеры"/>
          <p:cNvPicPr/>
          <p:nvPr/>
        </p:nvPicPr>
        <p:blipFill>
          <a:blip r:embed="rId1"/>
          <a:stretch/>
        </p:blipFill>
        <p:spPr>
          <a:xfrm>
            <a:off x="971640" y="1773360"/>
            <a:ext cx="7705800" cy="4867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972360" y="548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отношение различных решений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управлению отходам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826920" y="170028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хнологические инструмент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уменьшение количества упаковк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снижение содержания вредных веществ в конечном продукте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замену вредных/ опасных веществ и материалов в продукте на менее опасны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удлинение срока жизни продукта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изменение дизайна продукта на более экологичны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(использование экологически чистых материалов; созд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продуктов с максимальными возможностями повторног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использования и вторичной переработки и т.п.).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971640" y="522936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торное использов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45360" y="1026720"/>
            <a:ext cx="718092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ехнологические инструменты управления отходам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76360" y="1768320"/>
            <a:ext cx="6792840" cy="4050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972000" y="621360"/>
            <a:ext cx="7343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сновные технологические решения по утилизации  отход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54836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ИНЦИПИАЛЬНЫЕ ПОДХОДЫ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 ПЕРЕРАБОТКЕ ОТХОД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1280" y="21333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уществует четыре возможности по переработке отходов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. захоронение на полигонах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 сжигание, реже пиролиз и прочие высокотемпературные процесс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 компостировани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 сортировка с целью вторичного использования, утилизации и рециклинг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ждый из данных видов обладает своими достоинствами и недостатк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05680" y="50040"/>
            <a:ext cx="778032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ВЫСОКОТЕМПЕРАТУРНОЙ ПЕРЕРАБОТКИ ОТХОДОВ (сжигание с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учением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энергии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0920" y="765000"/>
            <a:ext cx="8064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м отходов сокращается до 5%, а вес – до 25% от начального объема. Таким образом, снижается потребность в площадях для захорон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временные когененерационные установки позволяют утилизировать до 80% запаса энергии в отхода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дна тонна несортированного бытового мусора по теплотворности соответствует ¼ т мазу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сле сжигания отходов прекращается выброс в атмосферу метана, образующегося на свалках и являющегося причиной парникового эффекта в 20 раз более значительной, чем двуокись углеро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ходы сжигания могут быть использованы при производстве строительных материалов; отходы сжигания органических веществ можно использовать в качестве удобр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1058760" y="5378400"/>
            <a:ext cx="7628040" cy="1251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1"/>
          <p:cNvSpPr/>
          <p:nvPr/>
        </p:nvSpPr>
        <p:spPr>
          <a:xfrm>
            <a:off x="826920" y="40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ледует отметить, что метод сжигания в настоящее время является капиталоемким. Прибыль, полученная от утилизации тепловой и электрической энергии компенсирует, в лучшем случае, 60% расходов на капитальные вложения и эксплуатационные затрат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367360" y="216000"/>
            <a:ext cx="54172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постировани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00000" y="764640"/>
            <a:ext cx="76932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 основным преимуществам компостирования можно отнести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изводство продукта, имеющего частичный рынок сбыта, хотя и ограниченный экологическими требованиям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нижение объема отходов, отправляемых на полигон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носительно небольшие капиталовложени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местимость с рециклизацией и системами производства топлива из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новным недостатком компостирования является получение экологически небезопасного продукта, содержащего вредные вещества, главным образом, тяжёлые металлы, загрязняющие почву. Очистка компоста связана со значительными затратами, а следовательно и удорожанием продукта, а подчас невозможна вообщ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826920" y="4813560"/>
            <a:ext cx="7993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Опыт показывает, что использование продукта компостирования требует значительного контроля со стороны экологических и санитарно-эпидемиологических служб. Компост может применяться для удобрения древесно-кустарниковой растительности, парков, газонов, но не для удобрения культур, используемых в пищу. Компост Минского мусороперерабатывающего завода использовался для засыпки промежуточных и верхнего слоев отходов в процессе рекультивации полигона ТБО «Тростенец» и полигона промотходов «Прудище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809120" cy="6124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3524040" y="291960"/>
            <a:ext cx="4627080" cy="44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хоронение на полигонах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78320" y="1075320"/>
            <a:ext cx="7878600" cy="31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ределение техн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26560" y="1628640"/>
            <a:ext cx="8055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ЕХНОЛОГИЯ (от греч . techne - искусство, мастерство, умение и ...логия), совокупность методов обработки, изготовления, изменения состояния, свойств, формы сырья, материала или полуфабриката, осуществляемых в процессе производства продукции; научная дисциплина, изучающая физические, химические, механические и др. закономерности, действующие в технологических процессах. Технологией называют также сами операции добычи, обработки, транспортировки, хранения, контроля, являющиеся частью общего производственного процесс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ТЕРИАЛОСБЕРЕГАЮЩАЯ ТЕХНОЛОГИЯ , обеспечивает получение готового продукта производства или его части либо без отходов материалов (безотходный технологический процесс), либо с минимальными отходами, не утилизируемыми в данном, а также в каких-либо других видах производства (малоотходный технологический процесс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СУРСОСБЕРЕГАЮЩАЯ ТЕХНОЛОГИЯ , обобщенное название технологий, в которых технологический процесс обеспечивается при минимальном расходе энергии, затратах на основные и вспомогательные материалы, заработную плату рабочим основного производства при заданном качестве и требуемой производительности труд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ЕЗОТХОДНАЯ ТЕХНОЛОГИЯ , термин, часто употребляемый в литературе для обозначения малоотходных технологических процесс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risunok-_pererabotka_othodov"/>
          <p:cNvPicPr/>
          <p:nvPr/>
        </p:nvPicPr>
        <p:blipFill>
          <a:blip r:embed="rId1"/>
          <a:stretch/>
        </p:blipFill>
        <p:spPr>
          <a:xfrm>
            <a:off x="252360" y="907920"/>
            <a:ext cx="8891640" cy="5830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093040" y="46440"/>
            <a:ext cx="700416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ДНЫЙ АНАЛИЗ ОСНОВНЫХ ТЕХНОЛОГИЧЕСКИХ РЕШЕНИЙ ПО ПЕРЕРАБОТКЕ ОТХОДОВ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1916280"/>
            <a:ext cx="80550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ТИО представляет собой информационную систему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о использованию отходов, их разработчиках и местах внедр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2764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920000" cy="50641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аво на получение информации ГРТИО имеют государственные органы, организации и гражда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доставление информации государственного реестра государственным органам, за исключением территориальных органов Министерства природных ресурсов и охраны окружающей среды Республики Беларусь, организациям и гражданам осуществляется на платной основ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мер платы за предоставление информации государственного реестра определяется органом ведения государственного реестра в соответствии с законодательством Республики Беларус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Объектами государственной регистрации в ГРТИО являются технологии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по использованию отходов в Республике Беларусь и иностранных государствах, как внедренные, так и не внедренны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убъектами государственной регистрации являются собственники технологий по использованию отходов или лица, ими уполномоченны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сударственная регистрация может быть добровольной или обязательно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сударственная регистрация технологий по использованию отходов осуществляется на основании регистрационных карт технологий по использованию отходов (далее - регистрационная карта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необходимости органом ведения ГРТИО могут быть истребованы другие документы о технологиях по использованию отходов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9928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271880" y="52920"/>
            <a:ext cx="7818840" cy="73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617840" y="938160"/>
            <a:ext cx="6702120" cy="58611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82720" y="55800"/>
            <a:ext cx="7813440" cy="77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332000" y="868320"/>
            <a:ext cx="7056360" cy="59896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972360" y="764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tretch/>
        </p:blipFill>
        <p:spPr>
          <a:xfrm>
            <a:off x="900000" y="2192400"/>
            <a:ext cx="7842240" cy="46656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115280" y="261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1403280" y="1298520"/>
            <a:ext cx="6985080" cy="55166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5327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— вещества или предметы, образующиеся в процессе осуществления экономической деятельности, жизнедеятельности человека и не имеющие определенного предназначения по месту их образования либо утратившие полностью или частично свои потребительские свойств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потребления — отходы, образующиеся в процессе жизнедеятельности человека, не связанной с осуществлением экономической деятельности, отходы, образующиеся в гаражных кооперативах, садоводческих товариществах и иных потребительских кооперативах, а также уличный и дворовый смет, образующийся на территориях общего пользования населенных пункт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производства — отходы, образующиеся в процессе осуществления юридическими лицами и индивидуальными предпринимателями экономической деятельности (производства продукции, энергии, выполнения работ, оказания услуг), побочные и сопутствующие продукты добычи и обогащения полезных ископаемы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пасные отходы — отходы, содержащие в своем составе вещества, обладающие каким-либо опасным свойством или их совокупностью, в таких количестве и виде, что эти отходы сами по себе либо при вступлении в контакт с другими веществами могут представлять непосредственную или потенциальную опасность причинения вреда окружающей среде, здоровью граждан, имуществу вследствие их вредного воздейств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59280" y="660600"/>
            <a:ext cx="784404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07480" y="522000"/>
            <a:ext cx="73904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1557360"/>
            <a:ext cx="83059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д отходов — совокупность отходов, имеющих общие признаки и классифицируемых в соответствии с настоящим Законом и иными актами законодательства об обращении с отход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вентаризация отходов — деятельность по определению количественных и качественных показателей отходов в целях учета отходов и установления нормативов их образ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пользование отходов — применение отходов для производства продукции, энергии, выполнения работ, оказания услуг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щение с отходами — деятельность, связанная с образованием отходов, их сбором, разделением по видам отходов, удалением, хранением, захоронением, перевозкой, обезвреживанием и (или) использованием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920" y="2060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захоронения отходов — полигоны и иные сооружения, предназначенные для захороне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обезвреживания отходов — сооружения (комплекс сооружений) и оборудование, предназначенные для обезврежива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по использованию отходов — сооружения (комплекс сооружений) и оборудование, предназначенные для использова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хранения отходов — сооружения (комплекс сооружений), предназначенные для хране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32640" y="882360"/>
            <a:ext cx="73904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280" y="1241280"/>
            <a:ext cx="8388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4. Размещение отходов — хранение или захоронение отход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10. Места временного хранения отходов — специальное оборудование (контейнеры, урны и т.п.), площадки и иные места, предназначенные для временного хранения отход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5. Санкционированное захоронение отходов — захоронение отходов в санкционированных местах захоро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6. Санкционированное хранение отходов — хранение отходов в санкционированных местах хра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7. Санкционированные места захоронения отходов — объекты захоронения отходов, определенные собственнику отходов для их захоронения в соответствии с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8. Санкционированные места хранения отходов — объекты хранения отходов или места временного хранения отходов, определенные собственнику отходов для их хранения в соответствии с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1000" y="45000"/>
            <a:ext cx="6934680" cy="62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826920" y="1793880"/>
            <a:ext cx="7990200" cy="3933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335040" y="58320"/>
            <a:ext cx="5750640" cy="80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правление отхода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794360" cy="565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12280" y="43560"/>
            <a:ext cx="8265600" cy="60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КТУАЛЬНОСТЬ СИСТЕМЫ УПРАЛЕНИЯ ОТХОДАМ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8118720" cy="4498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21:32:46Z</dcterms:created>
  <dc:creator>ddd</dc:creator>
  <dc:description>ekolog.na.by</dc:description>
  <dc:language>en-US</dc:language>
  <cp:lastModifiedBy>LEGION</cp:lastModifiedBy>
  <dcterms:modified xsi:type="dcterms:W3CDTF">2015-03-31T08:41:08Z</dcterms:modified>
  <cp:revision>117</cp:revision>
  <dc:subject/>
  <dc:title>Использование отх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04000000000001024140</vt:lpwstr>
  </property>
</Properties>
</file>